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FCB8-98AB-4194-9DB1-A81BC38EE7F1}" type="slidenum"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7D4F-4E12-4298-A133-442AFF83071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10AA-7DE7-4CDF-A33D-033522223F3C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4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4AE2-E15E-4E71-BB8F-CDD63D2E38C1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49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081E-17CB-4BFC-BEA1-038E25FE318E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53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381D-7752-4A40-9407-EDEA5F2ABFAD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57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7F34-E4A1-4698-8B40-6298C53844F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61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9102-4ADC-428D-8D66-2D23FC5B5BCC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6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3613-1542-4113-8132-1B2D13AD5E2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9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3FFF-423F-4D40-8F4E-D87245EF0BF4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33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5D2A-FCA7-468C-A44C-94276CE7E7F6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37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17FF-1BCA-4DBF-B81C-CA46CB182F5A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41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41. MEĐUNARODNI KONGRES O GREJANJU, HLAĐENJU I  KLIMATIZACIJI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476-5F9E-4F78-A4D7-352D2A77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B5B-BF71-49E1-8CCD-61D7AA7B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145-8EFB-48A6-A84E-8DB9B341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214-0B0A-436B-8B1B-5744208D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558F-0DA8-46A2-9B79-05F97BD9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C63D-569F-4B81-B137-9007C3C0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D9C8-A0EB-4C05-B68E-5079BF38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8D62-8191-4296-AFB2-09497B6C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8E28-D0D9-4321-B7E0-0A0E8884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4702-A0F9-4DD9-B879-5D16D154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26BA-D6BE-4C6F-B711-2D05E1DC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8A4-1593-4DA7-BC16-F8C05398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BDAF-A2BA-46B6-8523-F2167E1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6E96-1323-4695-9CEA-C0CA2C96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8B02-FECE-44C6-B985-0C3530C6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5DDB-2375-4CB5-AE86-3E195128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9E64-34D8-450D-81F7-76FC209C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004B-8066-4BD1-8857-ECA0CABC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4114-8A30-4782-9366-413349DD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EB742-C15B-45BE-BF16-245DAEBA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C53D-6E04-4B36-9EA8-A39848A7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5605-B39C-4E93-8F80-40D21C6A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C56-398F-4EE5-B767-5F8A8196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58F2-EEDC-4DF7-AC1A-C04DD3F2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1DA2-B147-4BE3-B1B9-07D0C09B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DC8B-9A8D-4D24-936C-9A2D1EBD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FABE1-3B9E-4ED5-8A8A-22675CE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A92D-E2AD-438E-85EA-64232D68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93A2A-E8F9-4BEE-984D-7BC212A4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0EFB-03EC-4621-9434-925B9178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5876-AD86-4F77-9912-7C9A4716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0FC8-B9B4-40F9-8A6E-7FB036CC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6404F-FB6B-4B39-8296-C05EC505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774-7DFF-4D9E-B72B-95768F26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A6B5-DA04-4435-9B58-EFAC93E9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25A3-F087-4FC6-AB4C-BC7E5375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6150-9AA4-43EE-A01F-C108B712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E171-2135-4E2B-B9BA-7AC246B8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D343-A4FC-486F-9323-144B16B6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9679-6E48-4D59-BD5A-AB789A81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E2FB4-77B6-4508-B165-4C317A52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951B-CA87-4969-AB0D-D1D8DA87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3208-DE11-44A3-85ED-89821478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6DC2D-A03D-49C0-B0C8-5559F8F0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9CA-C0C4-4E46-9EB4-40F72046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1935D-FA71-44FF-AFCC-08A90675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F9CD8-19E2-4195-992A-11350BB7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847AD-FCF7-47F8-B944-72696D53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D9D2A-1DF8-4E6F-B9AF-A87B9E76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B7137-A7EF-45A7-AA5E-F47C05DC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8B964-60AB-490C-A81B-A6E05E58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25C32-9981-4030-8F3F-B1CA35DA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3B953-962E-4AA1-B571-EDC51ED7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B61C-B812-40F8-821E-E50E729F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771B5-2B20-44BB-8C8A-C56E0B44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60C-3594-4C87-8827-4C10526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CD803-DD14-47AA-B63F-EA238625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64C-7C43-4D71-9E51-8ECE1E5F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67C-CC73-489F-947D-007C449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7BD-4E65-4A4E-8425-F47B996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45c75"/>
                </a:solidFill>
                <a:latin typeface="Constantia"/>
              </a:rPr>
              <a:t>Belgrade, May 10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45c75"/>
                </a:solidFill>
                <a:latin typeface="Constantia"/>
              </a:rPr>
              <a:t>ROUNDTABLE ON CLIMATE &amp; OZONE-FRIENDLY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86E6-AFBC-41CD-BD28-22A5A86563FE}" type="slidenum">
              <a:rPr b="0" lang="sr-Latn-CS" sz="24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206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206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Belgrade, May 10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UNDTABLE ON CLIMATE &amp; OZONE-FRIENDLY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54F8-E8A3-4F13-897C-7018FC42C714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grpSp>
        <p:nvGrpSpPr>
          <p:cNvPr id="9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7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206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0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206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1eaee"/>
                </a:solidFill>
                <a:latin typeface="Constantia"/>
              </a:rPr>
              <a:t>Belgrade, May 10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1eaee"/>
                </a:solidFill>
                <a:latin typeface="Constantia"/>
              </a:rPr>
              <a:t>ROUNDTABLE ON CLIMATE &amp; OZONE-FRIENDLY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0129-2A8E-43CE-AA74-75F0E0779BC3}" type="slidenum">
              <a:rPr b="0" lang="sr-Latn-CS" sz="24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7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206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0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206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5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54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55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45c75"/>
                </a:solidFill>
                <a:latin typeface="Constantia"/>
              </a:rPr>
              <a:t>Belgrade, May 10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45c75"/>
                </a:solidFill>
                <a:latin typeface="Constantia"/>
              </a:rPr>
              <a:t>ROUNDTABLE ON CLIMATE &amp; OZONE-FRIENDLY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3280-89CE-4CC5-928F-B2BAB5F68671}" type="slidenum">
              <a:rPr b="0" lang="sr-Latn-CS" sz="24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Belgrade, May 10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UNDTABLE ON CLIMATE &amp; OZONE-FRIENDLY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A2C4-7EAC-464A-A47C-314CC248E4C6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7"/>
          <p:cNvSpPr/>
          <p:nvPr/>
        </p:nvSpPr>
        <p:spPr>
          <a:xfrm>
            <a:off x="6629400" y="304920"/>
            <a:ext cx="213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8" name="Footer Placeholder 8"/>
          <p:cNvSpPr/>
          <p:nvPr/>
        </p:nvSpPr>
        <p:spPr>
          <a:xfrm>
            <a:off x="457200" y="304920"/>
            <a:ext cx="525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676520" y="130176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Франц Коши</a:t>
            </a:r>
            <a:r>
              <a:rPr b="1" lang="sl-SI" sz="18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P.E.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бщество специалистов по климатической, холодильной и отопительной технике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Белград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ербия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0" name="Slide Number Placeholder 12"/>
          <p:cNvSpPr/>
          <p:nvPr/>
        </p:nvSpPr>
        <p:spPr>
          <a:xfrm>
            <a:off x="8229600" y="6248520"/>
            <a:ext cx="76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D5EF-914C-4CBE-9E33-3C8BD46760FE}" type="slidenum">
              <a:rPr b="0" lang="sr-Latn-CS" sz="1400" spc="-1" strike="noStrike">
                <a:solidFill>
                  <a:srgbClr val="08376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2209680" y="34290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НКРЕТНЫЙ СЛУЧАЙ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НОВЫЙ ХОЛОДИЛЬНЫЙ АГРЕГАТ НА АММИАКЕ С ВТОРИЧНЫМИ ЖИДКОСТНЫМИ КОНТУРАМИ</a:t>
            </a:r>
            <a:endParaRPr b="0" lang="en-US" sz="24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7"/>
          <p:cNvSpPr/>
          <p:nvPr/>
        </p:nvSpPr>
        <p:spPr>
          <a:xfrm>
            <a:off x="6629400" y="304920"/>
            <a:ext cx="213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9" name="Footer Placeholder 8"/>
          <p:cNvSpPr/>
          <p:nvPr/>
        </p:nvSpPr>
        <p:spPr>
          <a:xfrm>
            <a:off x="457200" y="304920"/>
            <a:ext cx="525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0" name="Slide Number Placeholder 12"/>
          <p:cNvSpPr/>
          <p:nvPr/>
        </p:nvSpPr>
        <p:spPr>
          <a:xfrm>
            <a:off x="8229600" y="6248520"/>
            <a:ext cx="76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D089-CEB8-4C11-8DE2-6ADC045F7971}" type="slidenum">
              <a:rPr b="0" lang="sr-Latn-CS" sz="1400" spc="-1" strike="noStrike">
                <a:solidFill>
                  <a:srgbClr val="08376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58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7"/>
          <p:cNvSpPr/>
          <p:nvPr/>
        </p:nvSpPr>
        <p:spPr>
          <a:xfrm>
            <a:off x="6629400" y="304920"/>
            <a:ext cx="213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4" name="Footer Placeholder 8"/>
          <p:cNvSpPr/>
          <p:nvPr/>
        </p:nvSpPr>
        <p:spPr>
          <a:xfrm>
            <a:off x="457200" y="304920"/>
            <a:ext cx="525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5" name="Slide Number Placeholder 12"/>
          <p:cNvSpPr/>
          <p:nvPr/>
        </p:nvSpPr>
        <p:spPr>
          <a:xfrm>
            <a:off x="8229600" y="6248520"/>
            <a:ext cx="76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B2E7-014A-4005-8953-4D08CF25C97C}" type="slidenum">
              <a:rPr b="0" lang="sr-Latn-CS" sz="1400" spc="-1" strike="noStrike">
                <a:solidFill>
                  <a:srgbClr val="08376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1676520" y="990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imes New Roman"/>
              </a:rPr>
              <a:t>ВИНТОВЫЕ КОМПРЕССОРНЫЕ АГРЕГАТ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000" spc="-1" strike="noStrike">
              <a:solidFill>
                <a:srgbClr val="00206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914400" y="1981080"/>
          <a:ext cx="7053120" cy="3692520"/>
        </p:xfrm>
        <a:graphic>
          <a:graphicData uri="http://schemas.openxmlformats.org/drawingml/2006/table">
            <a:tbl>
              <a:tblPr/>
              <a:tblGrid>
                <a:gridCol w="704880"/>
                <a:gridCol w="1157400"/>
                <a:gridCol w="1374480"/>
                <a:gridCol w="1447920"/>
                <a:gridCol w="1374840"/>
                <a:gridCol w="993600"/>
              </a:tblGrid>
              <a:tr h="771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абочие услов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абочий объем (расчетный)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абочий объём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Холодопроизводительность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Установленная электрическая мощность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US" sz="1100" spc="-1" strike="noStrike" baseline="-25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 t</a:t>
                      </a:r>
                      <a:r>
                        <a:rPr b="0" lang="en-US" sz="1100" spc="-1" strike="noStrike" baseline="-25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, 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°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r>
                        <a:rPr b="0" lang="en-US" sz="11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h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r>
                        <a:rPr b="0" lang="en-US" sz="11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h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Вт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Вт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P-1 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42/-1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157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300,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79,3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P-2 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300,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79,3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P-3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33/-1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86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46,5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31,2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P-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6/+35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391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486,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30,3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15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P-5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126,1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13,6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P-6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0/+35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697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311,6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481,8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P-7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311,6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481,8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P-8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311,6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481,8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тог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.23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7"/>
          <p:cNvSpPr/>
          <p:nvPr/>
        </p:nvSpPr>
        <p:spPr>
          <a:xfrm>
            <a:off x="6629400" y="304920"/>
            <a:ext cx="213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9" name="Footer Placeholder 8"/>
          <p:cNvSpPr/>
          <p:nvPr/>
        </p:nvSpPr>
        <p:spPr>
          <a:xfrm>
            <a:off x="457200" y="304920"/>
            <a:ext cx="525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00" name="Slide Number Placeholder 12"/>
          <p:cNvSpPr/>
          <p:nvPr/>
        </p:nvSpPr>
        <p:spPr>
          <a:xfrm>
            <a:off x="8229600" y="6248520"/>
            <a:ext cx="76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87EC-0845-45B8-9180-567B1931E915}" type="slidenum">
              <a:rPr b="0" lang="sr-Latn-CS" sz="1400" spc="-1" strike="noStrike">
                <a:solidFill>
                  <a:srgbClr val="08376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1752480" y="12952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ТАБЛИЦА Т-4. ИСПАРИТЕЛЬНЫЕ КОНДЕНСАТОРЫ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19320" y="2209680"/>
          <a:ext cx="7053120" cy="2354400"/>
        </p:xfrm>
        <a:graphic>
          <a:graphicData uri="http://schemas.openxmlformats.org/drawingml/2006/table">
            <a:tbl>
              <a:tblPr/>
              <a:tblGrid>
                <a:gridCol w="414360"/>
                <a:gridCol w="1882800"/>
                <a:gridCol w="1374480"/>
                <a:gridCol w="1230480"/>
                <a:gridCol w="965160"/>
                <a:gridCol w="1185840"/>
              </a:tblGrid>
              <a:tr h="100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абочие услов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US" sz="1100" spc="-1" strike="noStrike" baseline="-25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DB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T</a:t>
                      </a:r>
                      <a:r>
                        <a:rPr b="0" lang="en-US" sz="1100" spc="-1" strike="noStrike" baseline="-25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WB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Мощность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оличество конденсаторов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асход воды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Установленная электрическая мощность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Вт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r>
                        <a:rPr b="0" lang="de-DE" sz="11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h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Вт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+35/+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.50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.62x5=13.1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x42.0=21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+35/+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.00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1.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тог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.50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6.9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61.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7"/>
          <p:cNvSpPr/>
          <p:nvPr/>
        </p:nvSpPr>
        <p:spPr>
          <a:xfrm>
            <a:off x="6629400" y="304920"/>
            <a:ext cx="213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04" name="Footer Placeholder 8"/>
          <p:cNvSpPr/>
          <p:nvPr/>
        </p:nvSpPr>
        <p:spPr>
          <a:xfrm>
            <a:off x="457200" y="304920"/>
            <a:ext cx="525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05" name="Slide Number Placeholder 12"/>
          <p:cNvSpPr/>
          <p:nvPr/>
        </p:nvSpPr>
        <p:spPr>
          <a:xfrm>
            <a:off x="8229600" y="6248520"/>
            <a:ext cx="76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1799-480E-43BC-A110-4EED267D2AA4}" type="slidenum">
              <a:rPr b="0" lang="sr-Latn-CS" sz="1400" spc="-1" strike="noStrike">
                <a:solidFill>
                  <a:srgbClr val="08376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525760" y="99072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АМЕРЫ ВЫСОКОГО ДАВЛЕНИЯ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14400" y="1523880"/>
          <a:ext cx="6824520" cy="4599000"/>
        </p:xfrm>
        <a:graphic>
          <a:graphicData uri="http://schemas.openxmlformats.org/drawingml/2006/table">
            <a:tbl>
              <a:tblPr/>
              <a:tblGrid>
                <a:gridCol w="401760"/>
                <a:gridCol w="2030400"/>
                <a:gridCol w="1190520"/>
                <a:gridCol w="1260360"/>
                <a:gridCol w="979560"/>
                <a:gridCol w="961920"/>
              </a:tblGrid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Тип камеры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Температура аммиака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азмеры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Объём аммиака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Масса аммиака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°C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мм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r>
                        <a:rPr b="0" lang="de-DE" sz="11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г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Аккумулятор Всасывания Низкого Давлен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42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Φ1300x5000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.66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.150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Аккумулятор Всасывания Низкого Давлен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33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Φ800x2600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.33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25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Аккумулятор Всасывания Высокого Давлен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Φ1200x4000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.15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05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Аккумулятор Всасывания Высокого Давлен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Φ1200x3250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.92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00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Аккумулятор Всасывания Высокого Давления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ромежуточный охладитель и Переохладитель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Φ1400x5000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.95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260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Аккумулятор Всасывания Высокого Давлен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Φ800x2500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.32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05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Термосифонный Аккумулятор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+35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.2604x20.00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.53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есивер Высокого Давлен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+35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Φ1000x350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.37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8280" bIns="0" anchor="ctr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05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тог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.16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7"/>
          <p:cNvSpPr/>
          <p:nvPr/>
        </p:nvSpPr>
        <p:spPr>
          <a:xfrm>
            <a:off x="6629400" y="304920"/>
            <a:ext cx="213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304920"/>
            <a:ext cx="525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11" name="Slide Number Placeholder 12"/>
          <p:cNvSpPr/>
          <p:nvPr/>
        </p:nvSpPr>
        <p:spPr>
          <a:xfrm>
            <a:off x="8229600" y="6248520"/>
            <a:ext cx="76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642F-425E-4466-A6A0-4CE65A6FBDD6}" type="slidenum">
              <a:rPr b="0" lang="sr-Latn-CS" sz="1400" spc="-1" strike="noStrike">
                <a:solidFill>
                  <a:srgbClr val="08376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3512520" y="7621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ИМУЩЕСТВА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33520" y="1395720"/>
            <a:ext cx="807696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оличество аммиака, используемого в системе является относительно высоким. Одной из причин является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двухступенчатое сжатие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Тем не менее, компоненты системы аммиака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ходятся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утри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омпрессорной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поэтому аммиака нет в производстве и накопителе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Система охлаждения включает подсистемы для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я отводимого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Times New Roman"/>
              </a:rPr>
              <a:t>тепла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(т.е. тепла, выводимого через компрессорное масляное охлаждение);  оно используется для бытового водонагрева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хладоноситель 40% водяной раствор пропиленгликоля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Общая тепловая мощность составляет 802.9 кВт 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Энергоэффективность холодильной установки может быть дополнительно увеличена за счет использования определенной части теплоты конденсации воды в отопительных целях.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06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3a15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7788-4D06-410C-ADDA-D3BC5371B29F}" type="slidenum">
              <a:rPr b="0" lang="en-US" sz="14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762120" y="1905120"/>
            <a:ext cx="746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беспечение безопасности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ммиачных холодильных систем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достигается: за счёт минимизации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заряд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хладагента, соответствующ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ей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вентиляци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за счёт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истемы поглощ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ения аммиака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, огран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ен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использовани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аммиака в общественных местах, а также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за счёт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истем охлажден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через теплоносители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a3a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3a1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 учетом вышеуказанных положений для аммиачных холодильных систем, их применение, вероятно, станет более распространенным. 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457200" y="38088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787080" y="380880"/>
            <a:ext cx="169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1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1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7"/>
          <p:cNvSpPr/>
          <p:nvPr/>
        </p:nvSpPr>
        <p:spPr>
          <a:xfrm>
            <a:off x="6629400" y="304920"/>
            <a:ext cx="213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19" name="Footer Placeholder 8"/>
          <p:cNvSpPr/>
          <p:nvPr/>
        </p:nvSpPr>
        <p:spPr>
          <a:xfrm>
            <a:off x="457200" y="304920"/>
            <a:ext cx="525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0" name="Slide Number Placeholder 12"/>
          <p:cNvSpPr/>
          <p:nvPr/>
        </p:nvSpPr>
        <p:spPr>
          <a:xfrm>
            <a:off x="8229600" y="6248520"/>
            <a:ext cx="76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90A5-F407-4ED4-860F-BEBD590114B4}" type="slidenum">
              <a:rPr b="0" lang="sr-Latn-CS" sz="1400" spc="-1" strike="noStrike">
                <a:solidFill>
                  <a:srgbClr val="08376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511080" y="30481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Спасибо вам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!</a:t>
            </a:r>
            <a:endParaRPr b="0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7"/>
          <p:cNvSpPr/>
          <p:nvPr/>
        </p:nvSpPr>
        <p:spPr>
          <a:xfrm>
            <a:off x="6629400" y="304920"/>
            <a:ext cx="213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3" name="Footer Placeholder 8"/>
          <p:cNvSpPr/>
          <p:nvPr/>
        </p:nvSpPr>
        <p:spPr>
          <a:xfrm>
            <a:off x="457200" y="304920"/>
            <a:ext cx="525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4" name="Slide Number Placeholder 12"/>
          <p:cNvSpPr/>
          <p:nvPr/>
        </p:nvSpPr>
        <p:spPr>
          <a:xfrm>
            <a:off x="8229600" y="6248520"/>
            <a:ext cx="76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5CF4-CE81-4522-87A9-5AB0F08FCE23}" type="slidenum">
              <a:rPr b="0" lang="sr-Latn-CS" sz="1400" spc="-1" strike="noStrike">
                <a:solidFill>
                  <a:srgbClr val="08376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762120" y="1295280"/>
            <a:ext cx="739116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ahoma"/>
              </a:rPr>
              <a:t>ОПИСАНИЕ НАЗНАЧЕНИЯ</a:t>
            </a:r>
            <a:endParaRPr b="0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ahoma"/>
              </a:rPr>
              <a:t>Для разработки системы охлаждения на заводе мясной промышленности, объёмом около 7,000 куриц в час (или 105,000 в день).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ahoma"/>
              </a:rPr>
              <a:t>Продукты: замороженное мясо, вареная и копченая колбаса, ветчина.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ahoma"/>
              </a:rPr>
              <a:t>Общая холодильная область (два уровня) составляет приблизительно 21.250 м</a:t>
            </a:r>
            <a:r>
              <a:rPr b="0" lang="en-US" sz="1600" spc="-1" strike="noStrike" baseline="30000">
                <a:solidFill>
                  <a:srgbClr val="002060"/>
                </a:solidFill>
                <a:latin typeface="Arial"/>
                <a:ea typeface="Tahoma"/>
              </a:rPr>
              <a:t>2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ahoma"/>
              </a:rPr>
              <a:t>; состоит из 49 холодильных камер и производственных помещений, быстро замораживающий туннель, четыре замораживающих пластинчатых теплообменника и туннель для предварительного охлаждения куриного мяса, до обработки.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7"/>
          <p:cNvSpPr/>
          <p:nvPr/>
        </p:nvSpPr>
        <p:spPr>
          <a:xfrm>
            <a:off x="6629400" y="304920"/>
            <a:ext cx="213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7" name="Footer Placeholder 8"/>
          <p:cNvSpPr/>
          <p:nvPr/>
        </p:nvSpPr>
        <p:spPr>
          <a:xfrm>
            <a:off x="457200" y="304920"/>
            <a:ext cx="525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8" name="Slide Number Placeholder 12"/>
          <p:cNvSpPr/>
          <p:nvPr/>
        </p:nvSpPr>
        <p:spPr>
          <a:xfrm>
            <a:off x="8229600" y="6248520"/>
            <a:ext cx="76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F867-3AD0-4615-A701-834E0C25E2B1}" type="slidenum">
              <a:rPr b="0" lang="sr-Latn-CS" sz="1400" spc="-1" strike="noStrike">
                <a:solidFill>
                  <a:srgbClr val="08376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143000" y="22366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Информация о местоположении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вод находится примерно в 60 км к югу от Белграда.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счёт температуры сухого и влажного термометров составляет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+35°C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и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+24°C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соответственно.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7"/>
          <p:cNvSpPr/>
          <p:nvPr/>
        </p:nvSpPr>
        <p:spPr>
          <a:xfrm>
            <a:off x="6629400" y="304920"/>
            <a:ext cx="213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61" name="Footer Placeholder 8"/>
          <p:cNvSpPr/>
          <p:nvPr/>
        </p:nvSpPr>
        <p:spPr>
          <a:xfrm>
            <a:off x="457200" y="304920"/>
            <a:ext cx="525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62" name="Slide Number Placeholder 12"/>
          <p:cNvSpPr/>
          <p:nvPr/>
        </p:nvSpPr>
        <p:spPr>
          <a:xfrm>
            <a:off x="8229600" y="6248520"/>
            <a:ext cx="76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C32A-79A4-4047-AD4F-AF58B34D2E93}" type="slidenum">
              <a:rPr b="0" lang="sr-Latn-CS" sz="1400" spc="-1" strike="noStrike">
                <a:solidFill>
                  <a:srgbClr val="08376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33520" y="1219320"/>
            <a:ext cx="83055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ahoma"/>
              </a:rPr>
              <a:t>СИСТЕМА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Tahoma"/>
              </a:rPr>
              <a:t>: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ahoma"/>
              </a:rPr>
              <a:t>Система охлаждения включает в себя центральную холодильную установку на основе аммиака и семь подсистем с водным раствором с пропиленгликолем в качестве хладоносителя.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ahoma"/>
              </a:rPr>
              <a:t>На аммиачных испарителях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ahoma"/>
              </a:rPr>
              <a:t>: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ahoma"/>
              </a:rPr>
              <a:t>слишком быстрая подача жидкости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ahoma"/>
              </a:rPr>
              <a:t>,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ahoma"/>
              </a:rPr>
              <a:t>циркуляция от 3 до 6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ahoma"/>
              </a:rPr>
              <a:t> 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ahom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ahoma"/>
              </a:rPr>
              <a:t>Высокая эффективность системы и снижение эксплуатационных расходов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ahom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ahoma"/>
              </a:rPr>
              <a:t>поверхность испарителя используется эффективно и компрессоры защищены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ahom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ahoma"/>
              </a:rPr>
              <a:t>центральный блок (CP, PV, CP) расположен в машинном отделении; таким образом, они находятся под наблюдением оператора или компьютерного мониторинга.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2"/>
          <p:cNvSpPr/>
          <p:nvPr/>
        </p:nvSpPr>
        <p:spPr>
          <a:xfrm>
            <a:off x="457200" y="3049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49FD-7A1C-41BB-A814-FFE0370FAE27}" type="slidenum">
              <a:rPr b="0" lang="en-US" sz="14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6631200" y="380880"/>
            <a:ext cx="18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695880" y="1143000"/>
            <a:ext cx="42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ММИАК В КАЧЕСТВЕ ХЛАДАГЕНТА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685800" y="1676520"/>
            <a:ext cx="8153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5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ммиак в наибольшей степени применяется в качестве хладагента в промышленном секторе, прежде всего в пищевой промышленности и распределении продовольственных секторов (в том числе в нефтехимической и даже фармацевтической промышленности).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225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ммиак обладает превосходными термодинамические свойствами и аммиачные холодильные системы являются более эффективными (3-10%) , чем большинство традиционных и новых хладагентов в пределах температур кипения и конденсации (от+10 до -45°C)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225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ообще, установка аммиачных холодильных систем стоит на 10-20% меньше, чем системы, использующие альтернативные промышленные хладагенты.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225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нулевой ОРП</a:t>
            </a:r>
            <a:r>
              <a:rPr b="0" lang="sr-Latn-CS" sz="16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нулевой ПГП</a:t>
            </a:r>
            <a:r>
              <a:rPr b="0" lang="sr-Latn-CS" sz="1600" spc="-1" strike="noStrike">
                <a:solidFill>
                  <a:srgbClr val="002060"/>
                </a:solidFill>
                <a:latin typeface="Arial"/>
              </a:rPr>
              <a:t>, 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низкий индекс </a:t>
            </a:r>
            <a:r>
              <a:rPr b="0" lang="sr-Latn-CS" sz="1600" spc="-1" strike="noStrike">
                <a:solidFill>
                  <a:srgbClr val="002060"/>
                </a:solidFill>
                <a:latin typeface="Arial"/>
              </a:rPr>
              <a:t>TEWI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225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нет кумулятивного воздействия на окружающую среду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225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очень ограничен (несколько дней) срок распада в атмосфере (считается "биологически разлагаемым".)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22536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резкий запах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!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даже малейшие следы аммиака в воздухе могут быть легко обнаружены. 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39BC-AE0B-4022-A580-03063291AB84}" type="slidenum">
              <a:rPr b="0" lang="en-US" sz="14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457200" y="1867320"/>
            <a:ext cx="8229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Аммиак трудно воспламеняется и обладает узким диапазоном воспламеняемости (он легко воспламеняется только при высоких концентрациях и в крайне ограниченных условиях).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Из-за того, что аммиак сам по себе не способствует возгоранию пламени, воспламенение паров аммиака требует непрерывного внешнего источника пламени. 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Скорость горения аммиака максимум 8 см/с, существенно ниже, чем других легковоспламеняющихся хладагентов, и не достаточно высока, чтобы создать взрыв.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По этим причинам, взрывы аммиака редки.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авильно спроектированные аммиачные холодильные системы, хорошо проветриваемые и без открытого пламени или источников возгорания смягчают потенциальный взрыв.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09480" y="457200"/>
            <a:ext cx="487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711120" y="457200"/>
            <a:ext cx="169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1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1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702720" y="1066680"/>
            <a:ext cx="40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ОСПЛАМЕНЯЕМОСТЬ АММИАКА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78D2-C053-4BF1-9D76-1F445965B61B}" type="slidenum">
              <a:rPr b="0" lang="en-US" sz="14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57200" y="38088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6711120" y="380880"/>
            <a:ext cx="169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1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1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767160" y="990720"/>
            <a:ext cx="67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ЧЕМУ ПРОПИЛЕНГЛИКОЛЬ (в качестве хладоносителя)?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533520" y="1600200"/>
            <a:ext cx="81532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Расходы на содержание: низкие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Биоразложение в воде: хорошее, жидкость полностью растворяется в воде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оксичность: средняя (на основе моно пропиленгликоля и ингибиторов коррозии); 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Температура вспышки: </a:t>
            </a:r>
            <a:r>
              <a:rPr b="0" lang="sr-Latn-CS" sz="1600" spc="-1" strike="noStrike">
                <a:solidFill>
                  <a:srgbClr val="002060"/>
                </a:solidFill>
                <a:latin typeface="Arial"/>
              </a:rPr>
              <a:t>420°C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Рабочая температура </a:t>
            </a:r>
            <a:r>
              <a:rPr b="0" lang="sr-Latn-CS" sz="1600" spc="-1" strike="noStrike">
                <a:solidFill>
                  <a:srgbClr val="002060"/>
                </a:solidFill>
                <a:latin typeface="Arial"/>
              </a:rPr>
              <a:t>: –30° to 50°C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Жидкость подходит для смешанных металлических систем;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еплофизические свойства: слабые! </a:t>
            </a: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7"/>
          <p:cNvSpPr/>
          <p:nvPr/>
        </p:nvSpPr>
        <p:spPr>
          <a:xfrm>
            <a:off x="6629400" y="304920"/>
            <a:ext cx="213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2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2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0" name="Footer Placeholder 8"/>
          <p:cNvSpPr/>
          <p:nvPr/>
        </p:nvSpPr>
        <p:spPr>
          <a:xfrm>
            <a:off x="457200" y="304920"/>
            <a:ext cx="525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1" name="Slide Number Placeholder 12"/>
          <p:cNvSpPr/>
          <p:nvPr/>
        </p:nvSpPr>
        <p:spPr>
          <a:xfrm>
            <a:off x="8229600" y="6248520"/>
            <a:ext cx="76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E402-9ACD-49AD-9168-A1C4FAFCD735}" type="slidenum">
              <a:rPr b="0" lang="sr-Latn-CS" sz="1400" spc="-1" strike="noStrike">
                <a:solidFill>
                  <a:srgbClr val="08376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2525040" y="838080"/>
            <a:ext cx="48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ХОЛОДИЛЬНАЯ ПРОИЗВОДИТЕЛЬНОСТЬ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838080" y="1371600"/>
          <a:ext cx="7239240" cy="4533840"/>
        </p:xfrm>
        <a:graphic>
          <a:graphicData uri="http://schemas.openxmlformats.org/drawingml/2006/table">
            <a:tbl>
              <a:tblPr/>
              <a:tblGrid>
                <a:gridCol w="381240"/>
                <a:gridCol w="1676160"/>
                <a:gridCol w="1371600"/>
                <a:gridCol w="1158840"/>
                <a:gridCol w="987480"/>
                <a:gridCol w="1663920"/>
              </a:tblGrid>
              <a:tr h="771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Nr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Хладагент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Температура Испарителя Первичной Системы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Температура Хладоносител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Холодопроизводительность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отребитель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°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°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Вт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аммиак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42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82.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замораживающий туннель, пластинчатые теплообменники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аммиак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33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04.2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хранение замороженных продуктов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аммиак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47.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технологическое оборудование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ропиленгликоль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, 40%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2/-8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361.8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Холодильные камеры 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25)   at -5 to +0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°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ропиленгликоль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, 25%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5/-1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496.2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Холодильные камеры 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24)   at +2 to +8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°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ропиленгликоль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, 25%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0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+7/12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51.7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Установки для кондиционирования воздуха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ропиленгликоль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, 25% - “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ледяная вода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” (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ладоноситель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2/-8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+0.5/+5.5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4.3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технологическое оборудование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F6C1-6FCD-4751-8AFC-773D3036F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533520" y="304920"/>
            <a:ext cx="4876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КРУГЛЫЙ СТОЛ ПО ОЗОНО И КЛИМАТИЧЕСКИ-БЕЗОПАСНЫМ ТЕХНОЛОГИЯМ, ВНЕДРЯЕМЫМ В ХОЛОДИЛЬНОЙ ОТРАСЛИ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787080" y="380880"/>
            <a:ext cx="169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Белград</a:t>
            </a:r>
            <a:r>
              <a:rPr b="1" lang="sr-Latn-CS" sz="1100" spc="-1" strike="noStrike">
                <a:solidFill>
                  <a:srgbClr val="083763"/>
                </a:solidFill>
                <a:latin typeface="Arial"/>
                <a:ea typeface="Arial"/>
              </a:rPr>
              <a:t>, 10</a:t>
            </a:r>
            <a:r>
              <a:rPr b="1" lang="ru-RU" sz="1100" spc="-1" strike="noStrike">
                <a:solidFill>
                  <a:srgbClr val="083763"/>
                </a:solidFill>
                <a:latin typeface="Arial"/>
                <a:ea typeface="Arial"/>
              </a:rPr>
              <a:t> Мая</a:t>
            </a:r>
            <a:r>
              <a:rPr b="1" lang="sr-Latn-CS" sz="1100" spc="-1" strike="noStrike">
                <a:solidFill>
                  <a:srgbClr val="083763"/>
                </a:solidFill>
                <a:latin typeface="Arial"/>
                <a:ea typeface="Arial"/>
              </a:rPr>
              <a:t>, 2011</a:t>
            </a:r>
            <a:endParaRPr b="0" lang="en-US" sz="1100" spc="-1" strike="noStrike">
              <a:solidFill>
                <a:srgbClr val="002060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42:56Z</dcterms:created>
  <dc:creator>FK</dc:creator>
  <dc:description/>
  <dc:language>en-US</dc:language>
  <cp:lastModifiedBy>home</cp:lastModifiedBy>
  <dcterms:modified xsi:type="dcterms:W3CDTF">2011-07-18T04:46:39Z</dcterms:modified>
  <cp:revision>116</cp:revision>
  <dc:subject/>
  <dc:title>Slide 1</dc:title>
</cp:coreProperties>
</file>